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4E1-0880-4F70-9715-CBC29702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819-7425-4F5B-A861-22E976E1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BF0-5062-450C-99CD-09385744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471-49AF-4FD1-9279-1E0E511D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759F-ACFD-4723-ADA5-60300AAA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2F15-8572-424A-BA46-8F64357D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2B59-0707-4D81-8779-0ABB4B5E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9585-E970-4642-89A5-9FCEE37F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3A2A-A41D-4579-A8B2-0793E30E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42EE-5ACD-4A2A-B3A0-C8537B76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B961-4CE6-4EC3-8F13-DF9F840F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32E-A3BC-4F11-B504-66B33FD7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C181-BC3E-41FA-AC40-24FBA705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07E2-D789-4F16-A7AC-95BA0111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4AAB-A944-4E13-92B5-1D87D4ED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CFAD-98A4-4130-8837-EB14C4BE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D042-6E90-4F79-ABCB-F2882F77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DFB-FDE4-40B3-993D-725E6340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0C8-2C14-4398-A5B8-8CE2205D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7FD-BCAE-4F5A-A922-B2310BD4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EC5-54F3-4F02-9237-D5162CB9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507-CBD8-4519-A2A1-C9204663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323-8186-46B3-A628-B3E27872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F2E-6AEF-4D74-A709-293E4E52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E348-4CCE-47E0-B797-0EE08C91D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FA64-1F76-47C7-9693-820A8D0DA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sr-RS" sz="4800" spc="-1" strike="noStrike">
                <a:solidFill>
                  <a:srgbClr val="ffffb7"/>
                </a:solidFill>
                <a:latin typeface="Comic Sans MS"/>
              </a:rPr>
              <a:t>Запаљењске б</a:t>
            </a:r>
            <a:r>
              <a:rPr b="1" lang="sr-CS" sz="4800" spc="-1" strike="noStrike">
                <a:solidFill>
                  <a:srgbClr val="ffffb7"/>
                </a:solidFill>
                <a:latin typeface="Comic Sans MS"/>
              </a:rPr>
              <a:t>олести</a:t>
            </a:r>
            <a:r>
              <a:rPr b="1" lang="sr-Latn-CS" sz="48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RS" sz="4800" spc="-1" strike="noStrike">
                <a:solidFill>
                  <a:srgbClr val="ffffb7"/>
                </a:solidFill>
                <a:latin typeface="Comic Sans MS"/>
              </a:rPr>
              <a:t>мозг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941360"/>
            <a:ext cx="6781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Гордана</a:t>
            </a:r>
            <a:r>
              <a:rPr b="0" lang="sr-Latn-C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Тон</a:t>
            </a:r>
            <a:r>
              <a:rPr b="0" lang="sr-RS" sz="3200" spc="-1" strike="noStrike">
                <a:solidFill>
                  <a:srgbClr val="ffffff"/>
                </a:solidFill>
                <a:latin typeface="Comic Sans MS"/>
              </a:rPr>
              <a:t>ч</a:t>
            </a: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Бактеријск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ноше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главн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рње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спираторно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атог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транеуронал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уж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анијалн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Бактеријск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-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Патофизиолог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тензив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еал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а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ксуда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трофил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укоцит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642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Бактеријск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-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Симптом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060640"/>
            <a:ext cx="7543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ут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ак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ебрил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раћ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етехијал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с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п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Бактеријски</a:t>
            </a:r>
            <a:r>
              <a:rPr b="1" lang="sl-SI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3600" spc="-1" strike="noStrike">
                <a:solidFill>
                  <a:srgbClr val="ffffb7"/>
                </a:solidFill>
                <a:latin typeface="Comic Sans MS"/>
              </a:rPr>
              <a:t>-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Клинички</a:t>
            </a:r>
            <a:r>
              <a:rPr b="1" lang="sl-SI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налаз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349000"/>
            <a:ext cx="800748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ош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гноз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оч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е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ла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Бактеријск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-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Дијагност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89647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ч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пил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т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иш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тисак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протеинорах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еоцитоз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лиморфонуклеар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100 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гликорах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Бактеријск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-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Дијагност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CT mozg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Odmah  - edem moz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Kasnije  - hidrocefa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ELISA te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Бактеријск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-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Терапиј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биотиц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тск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уберкулозн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82320" y="1974960"/>
            <a:ext cx="7340760" cy="39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а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уберкулозн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ктериеми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уберкулоз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ус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ичменој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ди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е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с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у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уберкулом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уптур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барахноид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сто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мор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ст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мпто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754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специфич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аксал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ебрил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шић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пич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тензив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рућ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муће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уберкулозн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61048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рганизовањ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ксуд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кундар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скул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ек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арктн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дан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ки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Инфекције</a:t>
            </a:r>
            <a:r>
              <a:rPr b="1" lang="sr-Latn-CS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ЦН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ити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нцефалити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оенцефалити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азито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еребр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псце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линичк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знац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т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оч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е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аниј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рв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иплег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апле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с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6104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Т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ућ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½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зити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уберкулонс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ж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с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чест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гатив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лаг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еоцитоз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100-400)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ла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протеинорах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гликорах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ултур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већа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зал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истер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денз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о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зал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дроцефал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ерап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Streptomycin i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Isoniasid per 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Rifampic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Pyridoxine – do dve god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22320" y="282240"/>
            <a:ext cx="76867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Гљивичн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главн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д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ник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е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мунско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спергил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ндидиј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Енцефалитис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рус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ктериј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Енцефалитис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-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Клиничка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лика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ненад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ебрил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е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њ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енерализова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з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сихичк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оч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Енцефалитис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-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с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ч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ла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јас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ра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Е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пич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ажњ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денз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о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јас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гранич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л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орагиј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денз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о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мпоралн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ронталн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жњ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ип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Енцефалитис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-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Дијагнос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еоцитоз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лаг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шк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орагич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икорах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протеинорах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лаг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шк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мунохемијск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хник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дентифика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ултур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дентифика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ктер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иопс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6760" y="228600"/>
            <a:ext cx="8101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Енцефалитис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-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ерап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Virusni - Acyclov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Bakterijski - Kortikosteroid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(16mg Dexasona u bolusu i.v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Antibiotic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četvrta generacija cefalospor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Vancomyc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Doxicycl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Acyclov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Parazitne infekcije C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Hidantina 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Cisticerko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7543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irusni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- HS, HZ, EB, West Nile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mums, varicella, rubella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kterijski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- Haemophilus infl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Neisseria meningit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Streptoccocus pneumo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T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Gljivični       - Aspergi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Cand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Hidantina bole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34100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Taenia echinococ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Cistično stanje - ciste sa dvostrukim zi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Ciste - u jet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u pluć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u mozg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Klinička slika - epi napa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glavobo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asimptomats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Dijagnoza - CT mozga - često slučajan nalaz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Cisticerkoz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Taenia solium - Cistično stanje – 60-90% cista u CNS-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Multifokalne ciste u raznim fazama razvoja (od perifokalnog edema do kalcifikacij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Klinička slika - ½ asimptomats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½ epi napa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čest arahnoiditis→hidrocefal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Cisticerkoz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Dijagnoza - CT mozga (često slučajan nala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Likvor - eozinofili→aktivna 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Antitela u serumu i likvo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Terapija - Praziquantel ili Albenda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Kortikosteroi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Церебралн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апсцес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е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нтинуитате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екциј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аназалн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у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редње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атоге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шире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ућ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екциј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→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птич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мболус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→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е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ламациј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кроз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орагиј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илтра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линуклеар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f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к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Церебрални</a:t>
            </a:r>
            <a:r>
              <a:rPr b="1" lang="sl-SI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апсцеси</a:t>
            </a:r>
            <a:r>
              <a:rPr b="1" lang="sl-SI" sz="3600" spc="-1" strike="noStrike">
                <a:solidFill>
                  <a:srgbClr val="ffffb7"/>
                </a:solidFill>
                <a:latin typeface="Comic Sans MS"/>
              </a:rPr>
              <a:t>-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Клиничка</a:t>
            </a:r>
            <a:r>
              <a:rPr b="1" lang="sl-SI" sz="3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600" spc="-1" strike="noStrike">
                <a:solidFill>
                  <a:srgbClr val="ffffb7"/>
                </a:solidFill>
                <a:latin typeface="Comic Sans MS"/>
              </a:rPr>
              <a:t>сли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ебрил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омнолен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п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е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пад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ла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е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ективно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ндр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оч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а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мњ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рнијациј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Церебралн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апсцес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-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Дијагност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213920"/>
            <a:ext cx="8785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ч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ла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пи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Е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споре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ди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П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!!!!!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нута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48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д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П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вес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хомофе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а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равни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вицам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једначени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бојавање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ко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вањ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раст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авилни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блик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анак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ст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ко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биотиц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ртикостерои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Неуросифил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Syphilis sive morbus Gallicus”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rolamo Fracasto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Неуросифил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епонем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лиду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omic Sans MS"/>
              </a:rPr>
              <a:t>1.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марн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кундар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цијалн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ffffb7"/>
                </a:solidFill>
                <a:latin typeface="Comic Sans MS"/>
              </a:rPr>
              <a:t>Примарни</a:t>
            </a:r>
            <a:r>
              <a:rPr b="1" lang="en-US" sz="42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200" spc="-1" strike="noStrike">
                <a:solidFill>
                  <a:srgbClr val="ffffb7"/>
                </a:solidFill>
                <a:latin typeface="Comic Sans MS"/>
              </a:rPr>
              <a:t>сифилис</a:t>
            </a: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н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н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сту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окул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нир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онта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3-6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де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атент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ериод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ј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ј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дељам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сецим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зитивн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рологиј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ffffb7"/>
                </a:solidFill>
                <a:latin typeface="Comic Sans MS"/>
              </a:rPr>
              <a:t>Секундарни</a:t>
            </a:r>
            <a:r>
              <a:rPr b="1" lang="sl-SI" sz="42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200" spc="-1" strike="noStrike">
                <a:solidFill>
                  <a:srgbClr val="ffffb7"/>
                </a:solidFill>
                <a:latin typeface="Comic Sans MS"/>
              </a:rPr>
              <a:t>сифилис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си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роз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спа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ебрил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о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р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мфаденопат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ирусн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ношењ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ематог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    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транеуронал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зонск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ављањ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ластер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т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с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ffffb7"/>
                </a:solidFill>
                <a:latin typeface="Comic Sans MS"/>
              </a:rPr>
              <a:t>Терцијални</a:t>
            </a:r>
            <a:r>
              <a:rPr b="1" lang="en-US" sz="46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600" spc="-1" strike="noStrike">
                <a:solidFill>
                  <a:srgbClr val="ffffb7"/>
                </a:solidFill>
                <a:latin typeface="Comic Sans MS"/>
              </a:rPr>
              <a:t>сифилис</a:t>
            </a:r>
            <a:endParaRPr b="1" lang="en-US" sz="4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ардиоваскулар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у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сифи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200" spc="-1" strike="noStrike">
                <a:solidFill>
                  <a:srgbClr val="ffffb7"/>
                </a:solidFill>
                <a:latin typeface="Comic Sans MS"/>
              </a:rPr>
              <a:t>Неуросифилис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582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Рано</a:t>
            </a: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току</a:t>
            </a: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болес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ериваскулар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илтра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е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т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клузиј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ериј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омбоз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Касн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генера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мирањ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и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троф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тање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илтра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еганглијск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лов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рзалн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рен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троф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дњ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лум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ичме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ожд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22320" y="282600"/>
            <a:ext cx="7686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ffffb7"/>
                </a:solidFill>
                <a:latin typeface="Comic Sans MS"/>
              </a:rPr>
              <a:t>Неуросифилис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830592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1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симптоматс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сифил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ут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тс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оваскул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4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енхиматоз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сифил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менти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алит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абе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рса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5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ум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Н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6.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генит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сифил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1.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Асимптоматски</a:t>
            </a: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неуросифил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лаг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мфоцит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еоцит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протеинорах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ДРЛ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Акутни</a:t>
            </a: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симптоматски</a:t>
            </a: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сифилисни</a:t>
            </a:r>
            <a:r>
              <a:rPr b="1" i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менингит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рри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193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к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раћањ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оч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де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пил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6.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7.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8.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раниј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р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д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ишени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итиск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мфоцит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еоцитоз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протеинорах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лаг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гликорах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ДРЛ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74960"/>
            <a:ext cx="778536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0" i="1" lang="sl-SI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1" i="1" lang="sr-CS" sz="2400" spc="-1" strike="noStrike">
                <a:solidFill>
                  <a:srgbClr val="ffffff"/>
                </a:solidFill>
                <a:latin typeface="Comic Sans MS"/>
              </a:rPr>
              <a:t>Менинговаскул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еалн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фламациј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ансверз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јелит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аплегиј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падо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нзибилит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убитак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рол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финктер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ме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304920"/>
            <a:ext cx="8964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Comic Sans MS"/>
              </a:rPr>
              <a:t>4.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аренхиматозни</a:t>
            </a:r>
            <a:r>
              <a:rPr b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неуросифи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еменциа</a:t>
            </a:r>
            <a:r>
              <a:rPr b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паралитик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ор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нтелектуал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етериора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емећај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ов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емо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језик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ук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нормалност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ениц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убитак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контрол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еш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Табес</a:t>
            </a:r>
            <a:r>
              <a:rPr b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Дорсал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адикулар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естезиј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зестез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убитак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убоко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ибрационог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ензибилит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ме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е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таксич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од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ацинант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ов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шки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талим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Comic Sans MS"/>
              </a:rPr>
              <a:t>5.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Гуме</a:t>
            </a:r>
            <a:r>
              <a:rPr b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ЦН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азалним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цистерн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ептоменинге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нутар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ренхим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Comic Sans MS"/>
              </a:rPr>
              <a:t>6.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Конгенитални</a:t>
            </a:r>
            <a:r>
              <a:rPr b="1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omic Sans MS"/>
              </a:rPr>
              <a:t>неуросифилис</a:t>
            </a:r>
            <a:r>
              <a:rPr b="0" lang="sl-SI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300" spc="-1" strike="noStrike">
                <a:solidFill>
                  <a:srgbClr val="ffffb7"/>
                </a:solidFill>
                <a:latin typeface="Comic Sans MS"/>
              </a:rPr>
              <a:t>Епидемиологија</a:t>
            </a:r>
            <a:r>
              <a:rPr b="1" lang="sl-SI" sz="33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3300" spc="-1" strike="noStrike">
                <a:solidFill>
                  <a:srgbClr val="ffffb7"/>
                </a:solidFill>
                <a:latin typeface="Comic Sans MS"/>
              </a:rPr>
              <a:t>неуросифилиса</a:t>
            </a:r>
            <a:endParaRPr b="1" lang="en-US" sz="33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абе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рсал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падањ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аст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симптоматс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тск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оваскул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ч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в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нт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ецифич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стов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тел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тив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репонем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алиду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еницилли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10-14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а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4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ат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сифил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Хвала на пажњ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ирусн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-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Симпто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989000"/>
            <a:ext cx="7543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кут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четак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ебрил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авобо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у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враћ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тофоб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иалг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ртралг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тк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тол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Вирусн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–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Клиничк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налаз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492280"/>
            <a:ext cx="800748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Пацијент</a:t>
            </a:r>
            <a:r>
              <a:rPr b="0" lang="sl-SI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свестан</a:t>
            </a:r>
            <a:r>
              <a:rPr b="0" lang="sl-SI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и</a:t>
            </a:r>
            <a:r>
              <a:rPr b="0" lang="sl-SI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66"/>
                </a:solidFill>
                <a:latin typeface="Comic Sans MS"/>
              </a:rPr>
              <a:t>адекватан</a:t>
            </a:r>
            <a:r>
              <a:rPr b="0" lang="sl-SI" sz="2400" spc="-1" strike="noStrike">
                <a:solidFill>
                  <a:srgbClr val="ffff66"/>
                </a:solidFill>
                <a:latin typeface="Comic Sans MS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коче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еал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е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фокалн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уролошких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сп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с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Вирусн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–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Дијагност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кв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ротеинорах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лаг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ерпротеинорах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имфоцит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леоцитоз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1000/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м</a:t>
            </a:r>
            <a:r>
              <a:rPr b="0" lang="sl-SI" sz="24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baseline="30000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гликорах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ормал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лаг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ипогликорах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Оч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дн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ред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л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екорис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Вирусн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000" spc="-1" strike="noStrike">
                <a:solidFill>
                  <a:srgbClr val="ffffb7"/>
                </a:solidFill>
                <a:latin typeface="Comic Sans MS"/>
              </a:rPr>
              <a:t> - </a:t>
            </a:r>
            <a:r>
              <a:rPr b="1" lang="sr-CS" sz="4000" spc="-1" strike="noStrike">
                <a:solidFill>
                  <a:srgbClr val="ffffb7"/>
                </a:solidFill>
                <a:latin typeface="Comic Sans MS"/>
              </a:rPr>
              <a:t>Дијагност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золациј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генс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начајан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пораст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тел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често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е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успе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пецифич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тестов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з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ХЗ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Е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Рекурентн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менингитис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мњ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на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ајмску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боле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филис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или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Васкулит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Вирусн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менингитиси</a:t>
            </a:r>
            <a:r>
              <a:rPr b="1" lang="sl-SI" sz="4400" spc="-1" strike="noStrike">
                <a:solidFill>
                  <a:srgbClr val="ffffb7"/>
                </a:solidFill>
                <a:latin typeface="Comic Sans MS"/>
              </a:rPr>
              <a:t>- </a:t>
            </a:r>
            <a:r>
              <a:rPr b="1" lang="sr-CS" sz="4400" spc="-1" strike="noStrike">
                <a:solidFill>
                  <a:srgbClr val="ffffb7"/>
                </a:solidFill>
                <a:latin typeface="Comic Sans MS"/>
              </a:rPr>
              <a:t>Терап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вирусне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упстан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ц</a:t>
            </a:r>
            <a:r>
              <a:rPr b="0" lang="sr-RS" sz="2400" spc="-1" strike="noStrike">
                <a:solidFill>
                  <a:srgbClr val="ffffff"/>
                </a:solidFill>
                <a:latin typeface="Comic Sans MS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лов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Симптомат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алге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ffffff"/>
                </a:solidFill>
                <a:latin typeface="Comic Sans MS"/>
              </a:rPr>
              <a:t>антипире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0:31:44Z</dcterms:created>
  <dc:creator>Goca Toncev</dc:creator>
  <dc:description/>
  <dc:language>en-US</dc:language>
  <cp:lastModifiedBy>Gordana Toncev</cp:lastModifiedBy>
  <dcterms:modified xsi:type="dcterms:W3CDTF">2020-09-26T09:10:25Z</dcterms:modified>
  <cp:revision>25</cp:revision>
  <dc:subject/>
  <dc:title>Infektivne bolesti centralnog nervnog sistema Neurološke komplikacije sistemskih oboljenja</dc:title>
</cp:coreProperties>
</file>